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33C-0469-4A2B-AD46-9971D002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D439-8DB0-4C1A-B4BA-4611B2C6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62AF3-CDBB-4200-891C-D492AE65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9F96E-EC78-4614-8D6B-8A8DF10E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9D7D2-641B-481F-A274-8D86E5CF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07627-27F6-4355-92E7-5D5BA3B2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6E879-E5FC-4987-91CB-82E2FC0E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C29D8-7810-4B9C-91FF-201FE0C0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2C071-1B8A-4518-81DA-479F420B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9E27B-5EBE-4B13-846A-9C678982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70DE1-C9C6-42BE-90CB-595208B8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8D725-D525-419B-9388-8CEB9E83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219B-1755-406D-9818-429A2278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4E5AC-2A9E-47CD-BF01-67DF870B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17745-8317-4ECE-BEE0-57369532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46889-5EB0-4BF5-9F9F-2BF30387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BA620-9DD8-4D18-8C55-FEA9EAA1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7AC0F-C20F-4C91-953F-C8CB19B3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23357-E6AF-40C2-A476-44632743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EAF00-71F5-46F5-8153-288DE1D8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0A5CF-5B9C-4BB5-8625-3C4C23E9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C4F87-C363-46CF-858C-199A1928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7BA97-CD0B-45BD-A22B-E279923D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E25-B3A4-49E7-98A7-939BF5A3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60C83-2C8E-4B7C-8791-D9024871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8847E-C288-439F-8743-64368B55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0AE25-C3DD-4696-853A-0DF02703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065DE-801A-4650-8179-FB371358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1417C-48F2-4CA7-833B-8B05AF75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EF0B3-7456-4EF6-B0A9-BEB1493F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319AB-1A33-4B83-8592-7E215C88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D38E0-6AFC-40E8-B167-0713211D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015DE-D1FD-4EB1-87ED-E943AAF2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471A7-4C19-4297-819E-32AE0234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FABE-29F3-4823-B57B-BCA93F1E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AFE9B-6031-45DB-B93C-933C2980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92055-E055-44AD-9137-27F01D52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9E289-0F29-4D03-911C-16455DDC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A1534-0A1A-45F3-949A-6D91D4CC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DF018-C7BC-4CA3-83A6-0C011B86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8C120-0C1F-42C2-91F4-88B14D82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9599F-F6A3-4ED4-A893-FFF7BEBD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8867B-F261-4F8E-8B0D-00CD7B20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475CB-689C-4D31-BF5B-C2FB8017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2243B-C36F-4BC7-8A50-EAB64D01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AD63-3A86-456E-8FD7-C571D5E0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9E1F4-8DD9-41F8-91A9-D321DB8F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3DF8C-0441-4041-A96D-518A107E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DB20C-9C2B-4F38-A198-7FED8198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3B441-4A33-4286-B119-302EE558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453D8-86F9-4C38-9E0F-EE728A8A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D8FA68-10F8-4219-BD94-BB63D3A9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81A236-6D52-4B51-AF9D-8CDE4626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56E60-B560-464F-89F2-375D61D1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E5844-4A45-44DF-8B7D-443A9FEB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C911C7-76DE-4927-A169-D0D37F5F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B8D8-C037-44DD-914B-FACAC7B2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67066-960D-4675-BDB9-870BC988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C0087-E30F-4CA9-BE62-C356C848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EDAD93-35DF-461C-8663-BE956EDB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385539-751D-47D3-B4A4-F7288BC1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7F2F34-DA7C-4B22-89A6-D7F41701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A6550-25E7-4F53-A399-D9FD50DA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0CE5D-791F-49CE-A47C-05C57282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AF50E0-1DCA-48EA-8B88-CD6D23FE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D93820-8CE7-4865-8261-0B2A6561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85E2BC-15AC-406C-9608-C529D2C5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6006-4E6A-4A19-AE20-93FBC0BB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4A1CBE-0F54-41AE-9136-A52B1389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E24D7-0A58-46F0-A411-042ADA3A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A2BDA3-F6B8-4F36-8618-E89FC687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7B9A0-12B6-477B-8A6B-B6EC1747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E3C6A9-553B-4184-8668-4FCBE9CC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8AEE24-E8EE-484D-AB23-FCE313A7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314764-2539-463F-B9BE-533AFE7A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9228F1-5B9F-4AF5-A180-8E3226B2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10E918-D07D-4EF2-8E8F-D4442B6F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7F5D85-89AB-44CF-BB17-E9F442DA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F4A9-8DE2-466E-911C-44B08501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DB8BBA-BB7D-4C04-B252-7D8BD8A3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783542-C5A9-4D0C-A819-ED7DAFEB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76F225-7CCA-403A-ADFF-D0CE58A5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43E28A-07DF-4625-927D-F9C9DBD4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CD2E39-776B-4BAE-B5E1-CD66972D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93C7C4-75A5-47E6-A781-F39B0ABE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EE2D24-F1D8-4C00-A5F4-24DEED18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4EF9C3-800D-4857-B00C-3B6DE2D3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198FC6-1618-40C5-A29F-12D6772C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29D72E-8E65-4B52-9766-97194BFE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7A2C-BF1F-41AE-BB02-7AA25165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F4D423-2524-4F3B-8363-83DDDED2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47ED33-F15F-415B-AA07-E17A7BF1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0DF843-846C-4E5B-BE49-791E15F7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B645FC-F0E0-4204-8D8D-0C5BBD4A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36E397-0877-4B77-9BBB-7577D590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5435E1-449C-49D8-B61C-9751E72A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D9F0EF-0AF9-476F-8AEC-8B127E2F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E80E3D-0AEA-4668-93DE-F59D3A7B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FCFB83-07C1-493B-BF09-C4AC6E4B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CABC93-02DF-4A7B-AEE0-42A30A50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1237-6F52-4E5F-A6D1-0D4D0F65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93B776-B531-49B0-B3F9-41436A9E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328F67-4106-4A4F-A7A4-9202DDF5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0CDB11-FE42-4ADD-B9CE-76EF7825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C49B28-88B7-4AAD-8CF7-2759CC4D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AFFD40-557F-4904-B698-9F04B000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A2BA30-ACF7-438B-A854-11BF84DC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53B43E-7133-4C68-AE28-F749AE78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EA3B94-FD24-4064-B962-7E11945D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7A4A8D-8EB2-44AE-A9BB-54A2C61C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FB1E9D-C9F1-4C26-A3D4-A9F19527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F63-58F1-4B18-8CD2-51B5D62B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E097-1105-4B81-B98F-64A78D22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5EE8F9-29F9-48FC-B9C5-C429CC28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7FEF68-A702-4DE1-A261-25F39656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9EF91C-E91B-43A0-B8C2-B81223CC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71BA71-CB4E-41D4-A19A-6334DC57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440362-D442-4A48-905D-0336D867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CD9BBD-916B-4178-919E-DF2DFF7F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BAFCFE-E2DA-45AF-BB3B-D57F583F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AB984C-C89B-4113-8D51-93CCBEF1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D74749-B6DD-43FB-A2FC-05641C90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7CB64F-4F0D-48B4-8EBB-8F621889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CDB3-3061-40CE-AE63-6FCE7495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18C7BF-A62E-400F-A615-B66594B1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581A09-C27D-47C8-B669-0F715E3A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C92783-C370-49E1-975E-87AB912C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5B2BCA-49B1-4776-8FAA-F8B8A587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517B4F-3457-4BF2-930E-9FFF5F45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C4E2DB-2A99-41D3-A1D7-463B8E96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F48C90-CC11-46B0-92F5-66813492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B3A34E-635F-452D-B88C-49B9B5A8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7EEE30-6C8B-423C-9B1E-16259C26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0AC362-4D77-4ADB-BCC0-47F26FE5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3128-A29B-4CC8-9F8A-5EF047A5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110268-C3A9-4386-9CF6-796F1106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8FAF41-CC66-4661-9F9C-CE5A6E0C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08C516-E571-4441-A246-4CF7A76F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D52C71-0114-4D78-84F1-9C27E973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DFB3FD-2E4D-4FDF-BB6B-DA03A995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B73753-9A7A-4BDC-8FF7-A7A38284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BB7279-AF24-4194-973C-7E213140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7FCF5B-E46B-40E0-B4B7-1397A7DB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F79AE8-9D39-41BA-9E86-482C056A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9F8C1E-840A-4AD3-973D-C4C90F33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E2BA-AF81-4863-92E3-A30369BC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020687-99C2-426C-9223-34AA810E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A7A81C-21AE-40B1-A1C6-D8E66C33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75A4BA-11C2-4CDE-94B5-7E5892AC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65718C-ADFA-42D6-9BFF-297728FD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41BCD8-D4C8-43ED-93BF-9EB70174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8F7937-577F-4A16-8D75-75C87E4B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9E2C7C-1AA5-455E-B4BE-8877C9AE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D77B68-D58A-4241-899E-76827DA4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5EBAEC-70E7-422C-AC8C-C6AC6B1A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108F25-C6D4-4916-9FC9-5AE5096C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F488-3B16-4178-BD06-A4E96C28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EE361F-85C2-4CFE-A6FF-5C791273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6DD57A-131E-47B0-9C2C-C5BA344E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1B5657-4D1E-4265-B84C-C7F7F980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C7EA27-1898-43DA-ACD2-C8EA6B7A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A330A4-CAF1-4A3D-AE4C-C475ED04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0359C5-57B1-4086-93CE-23F69BCE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72AA65-9A4F-4830-91E5-6C064FCD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B99E04-2BE0-4A34-99D1-7D4E219E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664301-AFFC-43B6-A649-E0E28C08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B1E6F1-8521-4083-9D7F-C391B3B8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7DB1D-0E1A-4776-A748-738C9722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20CCAE-5C5E-4E60-B5E6-17D31CFB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F67A35-135B-4653-8CEF-316A59A1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C9F027-D295-418C-9989-DCB72B29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0C676-3ABC-40CB-9523-1476D64E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9F531-91DE-4C8D-9220-5802E30F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BF97B-E2D6-4B57-A8BE-95B6FF7E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5D68E-C0FF-4990-A983-0919DA57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4DA-6844-400A-8F31-75D103B5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4AC73-3328-4511-88B9-8E58309B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07167-6357-4487-B619-8E129921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13A9E-812B-4C53-968F-D4617C3C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FE470-4974-421B-B319-211CA6D1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403B9-BC84-410E-890D-30B03558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DA0DB-37A6-4C55-9D24-7B9E069D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0E2BE-C932-4FBB-8C4B-67292E91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09DAB-1F3C-40C7-854D-3E5FB3B6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C13AA-A10C-4601-8A96-CDFE0620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637D4-CDF6-45FB-957E-F64B43F8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79F-4F93-4ECC-81DF-77156132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90C2C-E652-460D-8249-0D61CE87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DFC3A-F643-4FD6-A531-F0C05272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770DA-A9F8-4CFB-9005-11A539FF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EFA2E-1B23-461D-8974-8DF16262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EC3F6-B4E4-43F1-817D-51E8D44A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8E8EC-BA4C-48C9-8F33-BCB4A8B7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4CB3E-5E1B-4B2A-BD1C-D0B811B4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3B216-48DC-4E8D-914E-64F8FC3D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B45AA-60A2-4831-B725-A0488FE4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C03C1-7DDF-4ECD-8149-8F5A8750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64E-C67B-4756-9DF3-C42FD34A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9A0AC-AE22-41DF-A2DF-8597EA18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8FCB7-E236-4585-AE79-4B020804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C1430-9744-4B78-8374-25C8F0BF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52AAE-1948-475C-8151-F6C7111E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9D1CE-078A-465F-81AB-503108AD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2AFEB-FE4F-4D68-8FB9-B7E3EA61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311B3-203A-4FD0-8278-DF0F79AC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5B80B-D32F-420C-BCED-2B16948E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EA4A0-8F4D-4252-B4F0-6B8C5E8A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02E23-85E3-4E93-9BB4-EE91093C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40C-C951-4F48-9609-4B0FDAA9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AB97D-36BF-4AA0-AFAA-EA82A0C2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6C014-7F45-45C4-AB55-0EAB867B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6ED64-41DB-4BED-9F8E-113B3A71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B77A2-4843-48DA-9538-3492681C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57508-BE19-4315-962C-65802BD8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48ACA-57B7-4077-BF24-15856773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7080C-BB3B-45B6-9EF6-1A41BC13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7BA2C-9616-4312-9CE7-4326B0D8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6DE21-B613-4696-A327-0DA6143F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FA9E8-521F-42A3-A47D-4FFE4B09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1622-6904-4BD1-9714-607BFF25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22162-1250-4B90-B777-C78A49E8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0B6CB-9BAD-4BC8-A9D6-C3C00002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53E13-E119-4DF6-AA6C-CCB71AB4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AE9A7-E74F-4C91-8EA7-F2949B6F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C7D0C-CBD6-4A05-9650-3DDC4B13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E5CD3-3BF4-485C-BB89-26D08E54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F9D0A-E4AF-4C0E-9AFC-4C431B05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F4F0A-5BDB-444B-861D-37E9D6E7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43D15-4BB7-4680-9A95-31A4ED63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99BD2-6210-4C11-84ED-AE09522C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77EB-D13F-481B-A0FA-40303FAD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8EA26-DA68-4FDE-8C8D-F44DF198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55B52-F63B-45AC-963F-51EDDDEF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7E2A0-04D3-4454-89D7-C74DC87B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A3F37-C398-432D-996B-BDB1DD67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55D1D-F383-483E-A9DF-2D4DBA0F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98EAB-B3D0-44A5-9394-6277759D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B3685-2297-43B6-8AAC-A1AC4C1D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CE6D7-DAAB-4F89-9A12-5B734BE2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0FEE4-BDD1-4C5C-B27C-B463D283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22023-6B74-4493-9BA4-9BB82AC2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505A-FEE0-4B4C-8A3C-762F741F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AE8CA-FBCC-422C-A734-B9BF28E5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F2ED5-4B6F-47A1-A6B2-30D702F2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6AF8C-702B-4EBF-8ACD-7E83594F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F274F-35BB-4E3F-9981-4657C9BF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9CBFE-ED9F-4FF0-A080-3674ECC9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FDC8C-DA5E-475A-92B4-89DDA7CE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5340E-CA58-46FE-A4A8-FCDA581F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369F1-995D-4BF6-BF5C-C690F3FE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1AA04-E08F-4B68-A7B8-88FF0B41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64D93-7D04-4B88-9CCE-86206C09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89A5-D776-41B3-BDCE-DE23EDB8E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9EB2-4AB1-45AA-8167-CC618D70F2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9EDB-5FEA-4C91-8D25-5B671BDFC6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4AD3-6D3A-47C5-9E45-F47157471A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382A-DB9D-4815-9D4A-9FA2B1BAE6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8B78-FB85-4126-A3B8-027116EEDE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38D5-3958-4238-BB93-D77F6D8B5E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55DB-1F2E-4526-8D10-7CA5F20525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AEAC-EFF9-4511-A618-0F213378FF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5261-0163-428A-9011-D4BDBB3008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277A-477C-44A5-A33D-396590EEBA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C3BF-09C4-45A4-9816-FB9220C8DF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6633-0A74-40AB-B7F8-AFEE9ADC9D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0E86-3D4D-46A7-8041-9B9EA10C7E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9FDD-426A-4BB0-897D-3C5DE5DBC6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C785-AE88-4D64-BD9B-6DDD0B9101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17C2-4D55-4D40-B829-E0236FD1FC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E6B4-A454-47D0-BE06-CC10E09C27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8313-6885-42F0-9F0B-42A5DA71BB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9567-4176-406E-8AB7-D82A97EDEE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D2DA-A9DD-47B8-A450-E62D2D6608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4127-871D-4C71-AFF1-291AEA6C24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0D1A-F29C-49BE-8C1D-EDA119FBB5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5B1D-C664-47F7-9C12-2FB1BE5B5C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7C6A-FAF1-40B3-BEA7-8AE5AF2345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84D1-FBC3-40ED-9E86-D3DEDF1B11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1748-91F5-4B20-9EC3-4EA2334BC7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D4F2-4D91-4EC1-AA7A-BAF0C4F27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D25A-5CDD-46E8-9F5E-CE1E62F54C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D269-94A2-4BD2-A886-2D2BB90B1F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E59F-3DFF-41A1-BE00-719770BA1D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27F6-D28C-49E2-8105-77848691BB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DE94-1911-45C7-B9F0-675B628591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9F04-15A2-4671-88C6-18028554DD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CDB3-2075-4FA7-AD30-C9DDA71252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5271-63D2-4D0E-9148-F9868C8C09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0773-4177-4DC3-8624-37F4E360CC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3F1E-A7DD-497D-8C6F-FECF3152B2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7E29-C142-4D3C-84CF-79CECBD2B8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0B8C-8F46-4308-8A55-F8D8131740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4" descr=""/>
          <p:cNvPicPr/>
          <p:nvPr/>
        </p:nvPicPr>
        <p:blipFill>
          <a:blip r:embed="rId1"/>
          <a:stretch/>
        </p:blipFill>
        <p:spPr>
          <a:xfrm>
            <a:off x="92160" y="3000240"/>
            <a:ext cx="890892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2" descr=""/>
          <p:cNvPicPr/>
          <p:nvPr/>
        </p:nvPicPr>
        <p:blipFill>
          <a:blip r:embed="rId1"/>
          <a:stretch/>
        </p:blipFill>
        <p:spPr>
          <a:xfrm>
            <a:off x="480960" y="1290600"/>
            <a:ext cx="8182080" cy="4276800"/>
          </a:xfrm>
          <a:prstGeom prst="rect">
            <a:avLst/>
          </a:prstGeom>
          <a:ln w="0">
            <a:noFill/>
          </a:ln>
        </p:spPr>
      </p:pic>
      <p:sp>
        <p:nvSpPr>
          <p:cNvPr id="1056" name="矩形 2"/>
          <p:cNvSpPr/>
          <p:nvPr/>
        </p:nvSpPr>
        <p:spPr>
          <a:xfrm>
            <a:off x="7286760" y="1285920"/>
            <a:ext cx="11080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3"/>
          <p:cNvSpPr/>
          <p:nvPr/>
        </p:nvSpPr>
        <p:spPr>
          <a:xfrm>
            <a:off x="4643280" y="1857240"/>
            <a:ext cx="1500480" cy="279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4"/>
          <p:cNvSpPr/>
          <p:nvPr/>
        </p:nvSpPr>
        <p:spPr>
          <a:xfrm>
            <a:off x="2357280" y="2357280"/>
            <a:ext cx="9352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5"/>
          <p:cNvSpPr/>
          <p:nvPr/>
        </p:nvSpPr>
        <p:spPr>
          <a:xfrm>
            <a:off x="1143000" y="2857680"/>
            <a:ext cx="9288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6"/>
          <p:cNvSpPr/>
          <p:nvPr/>
        </p:nvSpPr>
        <p:spPr>
          <a:xfrm>
            <a:off x="4549680" y="2889360"/>
            <a:ext cx="10224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7"/>
          <p:cNvSpPr/>
          <p:nvPr/>
        </p:nvSpPr>
        <p:spPr>
          <a:xfrm>
            <a:off x="4478400" y="3392640"/>
            <a:ext cx="10713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8"/>
          <p:cNvSpPr/>
          <p:nvPr/>
        </p:nvSpPr>
        <p:spPr>
          <a:xfrm>
            <a:off x="1008000" y="3936960"/>
            <a:ext cx="9921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5543640" y="3929040"/>
            <a:ext cx="13572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10"/>
          <p:cNvSpPr/>
          <p:nvPr/>
        </p:nvSpPr>
        <p:spPr>
          <a:xfrm>
            <a:off x="4071960" y="4429080"/>
            <a:ext cx="11001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11"/>
          <p:cNvSpPr/>
          <p:nvPr/>
        </p:nvSpPr>
        <p:spPr>
          <a:xfrm>
            <a:off x="2797200" y="4971960"/>
            <a:ext cx="11858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1104840" y="3105000"/>
            <a:ext cx="693432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210520" cy="5772240"/>
          </a:xfrm>
          <a:prstGeom prst="rect">
            <a:avLst/>
          </a:prstGeom>
          <a:ln w="0">
            <a:noFill/>
          </a:ln>
        </p:spPr>
      </p:pic>
      <p:sp>
        <p:nvSpPr>
          <p:cNvPr id="1025" name="矩形 3"/>
          <p:cNvSpPr/>
          <p:nvPr/>
        </p:nvSpPr>
        <p:spPr>
          <a:xfrm>
            <a:off x="857160" y="25718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857160" y="4572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2" descr=""/>
          <p:cNvPicPr/>
          <p:nvPr/>
        </p:nvPicPr>
        <p:blipFill>
          <a:blip r:embed="rId1"/>
          <a:stretch/>
        </p:blipFill>
        <p:spPr>
          <a:xfrm>
            <a:off x="419040" y="947880"/>
            <a:ext cx="8305920" cy="4962240"/>
          </a:xfrm>
          <a:prstGeom prst="rect">
            <a:avLst/>
          </a:prstGeom>
          <a:ln w="0">
            <a:noFill/>
          </a:ln>
        </p:spPr>
      </p:pic>
      <p:sp>
        <p:nvSpPr>
          <p:cNvPr id="1028" name="矩形 2"/>
          <p:cNvSpPr/>
          <p:nvPr/>
        </p:nvSpPr>
        <p:spPr>
          <a:xfrm>
            <a:off x="857160" y="1000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3"/>
          <p:cNvSpPr/>
          <p:nvPr/>
        </p:nvSpPr>
        <p:spPr>
          <a:xfrm>
            <a:off x="928800" y="3429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"/>
          <p:cNvPicPr/>
          <p:nvPr/>
        </p:nvPicPr>
        <p:blipFill>
          <a:blip r:embed="rId1"/>
          <a:stretch/>
        </p:blipFill>
        <p:spPr>
          <a:xfrm>
            <a:off x="476280" y="2104920"/>
            <a:ext cx="8191440" cy="2648160"/>
          </a:xfrm>
          <a:prstGeom prst="rect">
            <a:avLst/>
          </a:prstGeom>
          <a:ln w="0">
            <a:noFill/>
          </a:ln>
        </p:spPr>
      </p:pic>
      <p:sp>
        <p:nvSpPr>
          <p:cNvPr id="1031" name="矩形 2"/>
          <p:cNvSpPr/>
          <p:nvPr/>
        </p:nvSpPr>
        <p:spPr>
          <a:xfrm>
            <a:off x="928800" y="22147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2" descr=""/>
          <p:cNvPicPr/>
          <p:nvPr/>
        </p:nvPicPr>
        <p:blipFill>
          <a:blip r:embed="rId1"/>
          <a:stretch/>
        </p:blipFill>
        <p:spPr>
          <a:xfrm>
            <a:off x="504720" y="1138320"/>
            <a:ext cx="8134560" cy="4581360"/>
          </a:xfrm>
          <a:prstGeom prst="rect">
            <a:avLst/>
          </a:prstGeom>
          <a:ln w="0">
            <a:noFill/>
          </a:ln>
        </p:spPr>
      </p:pic>
      <p:sp>
        <p:nvSpPr>
          <p:cNvPr id="1033" name="矩形 2"/>
          <p:cNvSpPr/>
          <p:nvPr/>
        </p:nvSpPr>
        <p:spPr>
          <a:xfrm>
            <a:off x="2643120" y="1643040"/>
            <a:ext cx="13575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3214800" y="2214720"/>
            <a:ext cx="10713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3379680" y="2708280"/>
            <a:ext cx="857520" cy="328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7132680" y="3794040"/>
            <a:ext cx="13572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7"/>
          <p:cNvSpPr/>
          <p:nvPr/>
        </p:nvSpPr>
        <p:spPr>
          <a:xfrm>
            <a:off x="3357720" y="4786200"/>
            <a:ext cx="2214360" cy="335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3" descr=""/>
          <p:cNvPicPr/>
          <p:nvPr/>
        </p:nvPicPr>
        <p:blipFill>
          <a:blip r:embed="rId1"/>
          <a:stretch/>
        </p:blipFill>
        <p:spPr>
          <a:xfrm>
            <a:off x="485640" y="1352520"/>
            <a:ext cx="8172720" cy="4152960"/>
          </a:xfrm>
          <a:prstGeom prst="rect">
            <a:avLst/>
          </a:prstGeom>
          <a:ln w="0">
            <a:noFill/>
          </a:ln>
        </p:spPr>
      </p:pic>
      <p:sp>
        <p:nvSpPr>
          <p:cNvPr id="1039" name="矩形 2"/>
          <p:cNvSpPr/>
          <p:nvPr/>
        </p:nvSpPr>
        <p:spPr>
          <a:xfrm>
            <a:off x="2500200" y="2500200"/>
            <a:ext cx="1071720" cy="311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3"/>
          <p:cNvSpPr/>
          <p:nvPr/>
        </p:nvSpPr>
        <p:spPr>
          <a:xfrm>
            <a:off x="4786200" y="2500200"/>
            <a:ext cx="10717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4"/>
          <p:cNvSpPr/>
          <p:nvPr/>
        </p:nvSpPr>
        <p:spPr>
          <a:xfrm>
            <a:off x="2851200" y="4579920"/>
            <a:ext cx="10922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5"/>
          <p:cNvSpPr/>
          <p:nvPr/>
        </p:nvSpPr>
        <p:spPr>
          <a:xfrm>
            <a:off x="4714920" y="4572000"/>
            <a:ext cx="10000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"/>
          <p:cNvSpPr/>
          <p:nvPr/>
        </p:nvSpPr>
        <p:spPr>
          <a:xfrm>
            <a:off x="1214280" y="5072040"/>
            <a:ext cx="8575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7"/>
          <p:cNvSpPr/>
          <p:nvPr/>
        </p:nvSpPr>
        <p:spPr>
          <a:xfrm>
            <a:off x="2571840" y="5072040"/>
            <a:ext cx="164304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495360" y="1895400"/>
            <a:ext cx="8153280" cy="3067200"/>
          </a:xfrm>
          <a:prstGeom prst="rect">
            <a:avLst/>
          </a:prstGeom>
          <a:ln w="0">
            <a:noFill/>
          </a:ln>
        </p:spPr>
      </p:pic>
      <p:sp>
        <p:nvSpPr>
          <p:cNvPr id="1046" name="矩形 2"/>
          <p:cNvSpPr/>
          <p:nvPr/>
        </p:nvSpPr>
        <p:spPr>
          <a:xfrm>
            <a:off x="2928960" y="2508120"/>
            <a:ext cx="7858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3"/>
          <p:cNvSpPr/>
          <p:nvPr/>
        </p:nvSpPr>
        <p:spPr>
          <a:xfrm>
            <a:off x="4143240" y="2500200"/>
            <a:ext cx="8575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4"/>
          <p:cNvSpPr/>
          <p:nvPr/>
        </p:nvSpPr>
        <p:spPr>
          <a:xfrm>
            <a:off x="5429160" y="2514600"/>
            <a:ext cx="7146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5"/>
          <p:cNvSpPr/>
          <p:nvPr/>
        </p:nvSpPr>
        <p:spPr>
          <a:xfrm>
            <a:off x="1128600" y="3503520"/>
            <a:ext cx="8575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6"/>
          <p:cNvSpPr/>
          <p:nvPr/>
        </p:nvSpPr>
        <p:spPr>
          <a:xfrm>
            <a:off x="3279600" y="3503520"/>
            <a:ext cx="11131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7"/>
          <p:cNvSpPr/>
          <p:nvPr/>
        </p:nvSpPr>
        <p:spPr>
          <a:xfrm>
            <a:off x="2714760" y="4071960"/>
            <a:ext cx="104616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8"/>
          <p:cNvSpPr/>
          <p:nvPr/>
        </p:nvSpPr>
        <p:spPr>
          <a:xfrm>
            <a:off x="5268960" y="4071960"/>
            <a:ext cx="12351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9"/>
          <p:cNvSpPr/>
          <p:nvPr/>
        </p:nvSpPr>
        <p:spPr>
          <a:xfrm>
            <a:off x="7203960" y="4029120"/>
            <a:ext cx="10828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2" descr=""/>
          <p:cNvPicPr/>
          <p:nvPr/>
        </p:nvPicPr>
        <p:blipFill>
          <a:blip r:embed="rId1"/>
          <a:stretch/>
        </p:blipFill>
        <p:spPr>
          <a:xfrm>
            <a:off x="509760" y="1238400"/>
            <a:ext cx="812448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25:2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